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  <p:custShowLst>
    <p:custShow name="(1.1)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519-28F4-4BB8-A772-E6AE9234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BFD-89F2-4A44-8211-2A321599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1A9-70B2-40D7-A328-1BB2119F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9E7-EB86-47A4-80DE-0FB69790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79B0-3F7A-49E2-973D-75EFC1D5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0E56-20E1-4CA6-AA25-4A79FE6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B291-1FE5-405E-95D5-0037EBB5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EA88-CBBF-4A0E-B65F-AF243845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4545-8773-40A8-B65D-345527BD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0D61-8DD2-49DA-B218-B67CABCD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A69-B916-4C27-B1B3-965E7771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0AB-DF65-413E-BBF5-07D711C4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F6A4-0AFC-438D-8FBB-5F1D4D79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7C2A-4067-48CB-9B13-5F3482BE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5FD-7793-424E-82DC-B3BB726C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9AA6-9EBF-429B-840D-E76FD009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8F6F-37A7-4F42-972E-B70FCCD4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B70B-1BED-4882-ABD8-8ABA0635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502E-AA9E-4DA0-A61E-D73F7BB0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B3E2-9757-4A34-94C2-ADDDC636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72DF-2E20-4B10-8FE3-0F8B9B5A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2117-6736-4480-8527-BCDCEE2E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845-7016-4648-A847-DBCBE16F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419A-FFBC-46C3-91B4-627C6BC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FEA5-8B4B-417A-891A-02B1C64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34F3-CCE9-47F8-97D8-1F967D2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0D0C-C172-47D1-9C67-E327AD11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C693-C872-4054-86DC-58D4826C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CAF1-9433-4F44-AE83-82650719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0964-687C-4156-B075-3F170447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E2F-91B9-4EA7-866A-39CEB6B8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B00-50B8-4FAE-AB96-EFE3B3FD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2F9-5AB9-4DC3-8BAB-5DA6745C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FA2-1850-4564-9405-11E3D8F9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4E0-B3A4-40C4-9BF5-F79196AB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121-9999-402D-884C-C5E21BC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B3B3-7C0F-4B06-B15E-95CC06147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0A31-D2D9-4CF9-9D03-7DB54D5DD19A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45C3-9A73-4C34-87F5-35AB4DDF441E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4.xml"/><Relationship Id="rId10" Type="http://schemas.openxmlformats.org/officeDocument/2006/relationships/slide" Target="slide18.xml"/><Relationship Id="rId11" Type="http://schemas.openxmlformats.org/officeDocument/2006/relationships/slide" Target="slide3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9.xml"/><Relationship Id="rId17" Type="http://schemas.openxmlformats.org/officeDocument/2006/relationships/slide" Target="slide17.xml"/><Relationship Id="rId18" Type="http://schemas.openxmlformats.org/officeDocument/2006/relationships/slide" Target="slide8.xml"/><Relationship Id="rId19" Type="http://schemas.openxmlformats.org/officeDocument/2006/relationships/slide" Target="slide7.xml"/><Relationship Id="rId20" Type="http://schemas.openxmlformats.org/officeDocument/2006/relationships/slide" Target="slide6.xml"/><Relationship Id="rId21" Type="http://schemas.openxmlformats.org/officeDocument/2006/relationships/slide" Target="slide19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exact place on the earth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r latitude and longitu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bsolute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6002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oser you are to the equator the warm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, even if your latitude is degrees no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the equator affect temp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weste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emisphere does Africa NOT TO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3pm in New York what time is it in Califor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you are in relation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el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lative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8288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titude - 35N to 44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itude - 73 W to 65 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0880"/>
            <a:ext cx="91440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latitude and longitude of N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371600"/>
            <a:ext cx="7162920" cy="4038480"/>
          </a:xfrm>
          <a:prstGeom prst="wedgeRectCallout">
            <a:avLst>
              <a:gd name="adj1" fmla="val -21231"/>
              <a:gd name="adj2" fmla="val 361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quator and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ime Meri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0492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wo imaginary lines divide the earth into its hemisphe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p Key - Explain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ymbols on a map me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p Scale - Explains how f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art things would be in real 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rses what they loo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ke on a ma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map key?  What is a map sc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humans have changed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d for the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Human and Environmental Inter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3716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solute location is your ex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cation (lat. And long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ve location is where you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relation to something els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I live 5 min from EM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absolute and relative lo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6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8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9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0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0"/>
            <a:ext cx="19810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itude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152280"/>
            <a:ext cx="205740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ents and Hemisph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5228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s and Time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228600"/>
            <a:ext cx="175284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1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4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5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6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7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1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23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5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acific, Atlantic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ctic, and Indian Oce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ll of the Earth’s Oc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2133720"/>
            <a:ext cx="7162920" cy="3657600"/>
          </a:xfrm>
          <a:prstGeom prst="wedgeRectCallout">
            <a:avLst>
              <a:gd name="adj1" fmla="val -21231"/>
              <a:gd name="adj2" fmla="val 2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 am in Ore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:30 am in Ma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304920"/>
            <a:ext cx="7086600" cy="1557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2 am in Texas and I called my friend Suzie in Oregon what time would it be there?  If Suzie then called her friend in Maine a half hour later, what time would it b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rea with comm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racteristic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mans can chang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region to anothe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gions ARE NOT perman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gion.  Are regions perman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53920" y="762120"/>
            <a:ext cx="6226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NAL JEOPARDY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AMS MAKE Y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NAL WAG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R TOPIC - Map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96240" y="1981080"/>
            <a:ext cx="6121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a Physical M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a Political M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titude is FAT and can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sured in degrees N or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Latitud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rth America, South 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ia, Europe, Africa, Antarctic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stral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names of the contin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-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mp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four necessary parts of a m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4479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ople in one place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tact with people from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de or communication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move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ngitude is LONG and can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sured in degrees E or W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Longitu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Northwestern hemisp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emisphere is North America located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447920"/>
            <a:ext cx="7162920" cy="4038480"/>
          </a:xfrm>
          <a:prstGeom prst="wedgeRectCallout">
            <a:avLst>
              <a:gd name="adj1" fmla="val -21231"/>
              <a:gd name="adj2" fmla="val 17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time zones exist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CPS</cp:lastModifiedBy>
  <cp:lastPrinted>2001-01-31T16:21:13Z</cp:lastPrinted>
  <dcterms:modified xsi:type="dcterms:W3CDTF">2009-09-11T14:56:47Z</dcterms:modified>
  <cp:revision>6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